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BA02-FBA4-4F7F-9AC8-5AB782135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FC06-C858-4B75-BBA3-D32CF033F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4D5A-70AD-4053-AED8-98B97D5C9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579D-325D-4E62-8A4F-220D8584A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2D7BB-B945-45A1-8FAB-B469EE9D2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0FD00-40EA-47B2-895E-DF545441B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5E2F2-DDE2-47AC-92BD-C5B9D08D8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47A8C-5A93-43FD-B54C-D65C827E0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9E282-0748-4946-A5C9-6EC5C3BA2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A5999-413C-4B7E-8736-112BE0BDD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CDFC0-26BD-45C7-A86B-1A11832DB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7A71-68FA-46AD-B684-E14026134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8E1AF-4DE7-41FA-90D6-67B62A14D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887A5-A37B-4507-A319-351D805CD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69F71-1795-47B2-8F4C-8191CC9EB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5FB6C-7748-4CC7-8E87-8A5C56D29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3EE19-BA5F-4E0F-9D19-D25F7B0B4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AEC4-82EB-4119-8CE2-0888D00A3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C8A8-A2A3-419A-BCD9-F17DFF97F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1134-5E16-4114-99DA-25E3E669F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27CD-21B6-4577-9662-B0A87C220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B676-2A1C-42E8-8696-DDB43160D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C4FC-D1DC-4432-94E9-A20A85041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B74C-D0F8-4D53-8B7A-48C0F8FC1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0564D-4FB7-475B-B2AB-69F623AE27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FC66C-003C-4846-878F-85DB74D18A06}" type="slidenum">
              <a:rPr b="0" lang="en-US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47280" y="549000"/>
            <a:ext cx="6193080" cy="237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Verdana"/>
              </a:rPr>
              <a:t>Needs Analysis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Verdana"/>
              </a:rPr>
              <a:t>Administering the needs analysis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Who will administer the needs analysis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Who will collect and analyze the results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* academic or research assistan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* colleagues in different departmen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* students who piloted the questionnair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* academic staff of the university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* secretarial support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Verdana"/>
              </a:rPr>
              <a:t>Procedures for conducting needs analysis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Questionnaire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Self-rating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Interview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Meeting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Observation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Collecting learner language sample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Task analysi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Case studie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Analysis of available information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Design of Questionnaire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The following questions need to be considered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Preliminary question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The types of information asked for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How the questions are worded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The type of items in the questionnaire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6699"/>
                </a:solidFill>
                <a:latin typeface="Times New Roman"/>
              </a:rPr>
              <a:t>open questions, closed questions, checklist, rating scale, ranking, inventory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Verdana"/>
              </a:rPr>
              <a:t>A disadvantage  of Questionnaires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The information obtained may be fairly superficial or imprecise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The information will often need follow-up to gain a fuller understanding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* Advice: to familiar with the principles of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                   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good questionnaire design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Self-rating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Self-ratings might be included as part of a questionnaire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imes New Roman"/>
              </a:rPr>
              <a:t>Disadvantage:</a:t>
            </a: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It provides only impressionistic information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Interview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imes New Roman"/>
              </a:rPr>
              <a:t>Advantage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* Allow for a more in-depth exploration of issu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* may be useful at the preliminary stage of designin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a questionnaire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imes New Roman"/>
              </a:rPr>
              <a:t>Disadvantage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* Take longer to administer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* Only feasible for smaller group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Meeting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1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imes New Roman"/>
              </a:rPr>
              <a:t>Advantage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* Allows a large amount of information to be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collected in a fairly short time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imes New Roman"/>
              </a:rPr>
              <a:t>Disadvantage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* Information may be impressionistic and subjectiv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Observation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imes New Roman"/>
              </a:rPr>
              <a:t>Take into account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* People often do not perform well when they are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observed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* The skill of observer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Collecting learner language sample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2421000"/>
            <a:ext cx="8229600" cy="38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imes New Roman"/>
              </a:rPr>
              <a:t>Language samples may be collected through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Written or oral task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Simulations or role play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Achievement test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Performance test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Task analysi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Analysis the tasks the learners will have to carry out in English in a future occupational or educational setting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66"/>
                </a:solidFill>
                <a:latin typeface="Verdana"/>
              </a:rPr>
              <a:t>Introduction</a:t>
            </a:r>
            <a:endParaRPr b="0" lang="en-US" sz="6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4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Times New Roman"/>
              </a:rPr>
              <a:t>What are </a:t>
            </a:r>
            <a:r>
              <a:rPr b="1" lang="zh-TW" sz="3600" spc="-1" strike="noStrike">
                <a:solidFill>
                  <a:srgbClr val="006699"/>
                </a:solidFill>
                <a:latin typeface="Times New Roman"/>
              </a:rPr>
              <a:t>‘</a:t>
            </a:r>
            <a:r>
              <a:rPr b="1" lang="en-US" sz="3600" spc="-1" strike="noStrike">
                <a:solidFill>
                  <a:srgbClr val="006699"/>
                </a:solidFill>
                <a:latin typeface="Times New Roman"/>
              </a:rPr>
              <a:t>Needs</a:t>
            </a:r>
            <a:r>
              <a:rPr b="1" lang="zh-TW" sz="3600" spc="-1" strike="noStrike">
                <a:solidFill>
                  <a:srgbClr val="006699"/>
                </a:solidFill>
                <a:latin typeface="Times New Roman"/>
              </a:rPr>
              <a:t>’</a:t>
            </a:r>
            <a:r>
              <a:rPr b="1" lang="en-US" sz="3600" spc="-1" strike="noStrike">
                <a:solidFill>
                  <a:srgbClr val="006699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Wants, desires, demands, expectation, motivations,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lacks, constraints, and requirements (Brindley 1984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Times New Roman"/>
              </a:rPr>
              <a:t>What is </a:t>
            </a:r>
            <a:r>
              <a:rPr b="1" lang="zh-TW" sz="3600" spc="-1" strike="noStrike">
                <a:solidFill>
                  <a:srgbClr val="006699"/>
                </a:solidFill>
                <a:latin typeface="Times New Roman"/>
              </a:rPr>
              <a:t>‘</a:t>
            </a:r>
            <a:r>
              <a:rPr b="1" lang="en-US" sz="3600" spc="-1" strike="noStrike">
                <a:solidFill>
                  <a:srgbClr val="006699"/>
                </a:solidFill>
                <a:latin typeface="Times New Roman"/>
              </a:rPr>
              <a:t>Needs Analysis</a:t>
            </a:r>
            <a:r>
              <a:rPr b="1" lang="zh-TW" sz="3600" spc="-1" strike="noStrike">
                <a:solidFill>
                  <a:srgbClr val="006699"/>
                </a:solidFill>
                <a:latin typeface="Times New Roman"/>
              </a:rPr>
              <a:t>’</a:t>
            </a:r>
            <a:r>
              <a:rPr b="1" lang="en-US" sz="3600" spc="-1" strike="noStrike">
                <a:solidFill>
                  <a:srgbClr val="006699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Procedures for collecting information about learners</a:t>
            </a:r>
            <a:r>
              <a:rPr b="0" lang="zh-TW" sz="2800" spc="-1" strike="noStrike">
                <a:solidFill>
                  <a:srgbClr val="006699"/>
                </a:solidFill>
                <a:latin typeface="Times New Roman"/>
              </a:rPr>
              <a:t>’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needs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Times New Roman"/>
              </a:rPr>
              <a:t>When did </a:t>
            </a:r>
            <a:r>
              <a:rPr b="1" lang="zh-TW" sz="3600" spc="-1" strike="noStrike">
                <a:solidFill>
                  <a:srgbClr val="006699"/>
                </a:solidFill>
                <a:latin typeface="Times New Roman"/>
              </a:rPr>
              <a:t>‘</a:t>
            </a:r>
            <a:r>
              <a:rPr b="1" lang="en-US" sz="3600" spc="-1" strike="noStrike">
                <a:solidFill>
                  <a:srgbClr val="006699"/>
                </a:solidFill>
                <a:latin typeface="Times New Roman"/>
              </a:rPr>
              <a:t>Needs Analysis</a:t>
            </a:r>
            <a:r>
              <a:rPr b="1" lang="zh-TW" sz="3600" spc="-1" strike="noStrike">
                <a:solidFill>
                  <a:srgbClr val="006699"/>
                </a:solidFill>
                <a:latin typeface="Times New Roman"/>
              </a:rPr>
              <a:t>’</a:t>
            </a:r>
            <a:r>
              <a:rPr b="1" lang="en-US" sz="3600" spc="-1" strike="noStrike">
                <a:solidFill>
                  <a:srgbClr val="006699"/>
                </a:solidFill>
                <a:latin typeface="Times New Roman"/>
              </a:rPr>
              <a:t> emerge?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In the 1960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ESP movemen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Case studie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7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A single student or a selected group of students is followed through a relevant work or educational experience in order to determine the characteristics of that situation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Analysis of available information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0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                     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Book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Journal article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Reports and survey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Records and file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66"/>
                </a:solidFill>
                <a:latin typeface="Verdana"/>
              </a:rPr>
              <a:t>Designing the needs analysis</a:t>
            </a:r>
            <a:endParaRPr b="0" lang="en-US" sz="3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99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Procedures for bigger-scal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99"/>
                </a:solidFill>
                <a:latin typeface="Times New Roman"/>
              </a:rPr>
              <a:t>Literature survey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99"/>
                </a:solidFill>
                <a:latin typeface="Times New Roman"/>
              </a:rPr>
              <a:t>Analysis of a wide range of survey questionnaires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99"/>
                </a:solidFill>
                <a:latin typeface="Times New Roman"/>
              </a:rPr>
              <a:t>Contact with others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99"/>
                </a:solidFill>
                <a:latin typeface="Times New Roman"/>
              </a:rPr>
              <a:t>Interviews with teachers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99"/>
                </a:solidFill>
                <a:latin typeface="Times New Roman"/>
              </a:rPr>
              <a:t>Identification of participating departments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99"/>
                </a:solidFill>
                <a:latin typeface="Times New Roman"/>
              </a:rPr>
              <a:t>Presentation of project proposal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99"/>
                </a:solidFill>
                <a:latin typeface="Times New Roman"/>
              </a:rPr>
              <a:t>Development of a pilot student and staff questionnaires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99"/>
                </a:solidFill>
                <a:latin typeface="Times New Roman"/>
              </a:rPr>
              <a:t>Review of the questionnaires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66"/>
                </a:solidFill>
                <a:latin typeface="Verdana"/>
              </a:rPr>
              <a:t>Designing the needs analysis</a:t>
            </a:r>
            <a:endParaRPr b="0" lang="en-US" sz="3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0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99"/>
                </a:solidFill>
                <a:latin typeface="Times New Roman"/>
              </a:rPr>
              <a:t>Piloting of the questionnaires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99"/>
                </a:solidFill>
                <a:latin typeface="Times New Roman"/>
              </a:rPr>
              <a:t>Selection of staff and student subjects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99"/>
                </a:solidFill>
                <a:latin typeface="Times New Roman"/>
              </a:rPr>
              <a:t>Developing a schedule for collecting data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99"/>
                </a:solidFill>
                <a:latin typeface="Times New Roman"/>
              </a:rPr>
              <a:t>Administration of questionnaires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99"/>
                </a:solidFill>
                <a:latin typeface="Times New Roman"/>
              </a:rPr>
              <a:t>Follow-up interviews 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99"/>
                </a:solidFill>
                <a:latin typeface="Times New Roman"/>
              </a:rPr>
              <a:t>Tabulation or responses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99"/>
                </a:solidFill>
                <a:latin typeface="Times New Roman"/>
              </a:rPr>
              <a:t>Analysis of responses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99"/>
                </a:solidFill>
                <a:latin typeface="Times New Roman"/>
              </a:rPr>
              <a:t>Writing up of report and recommendations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66"/>
                </a:solidFill>
                <a:latin typeface="Verdana"/>
              </a:rPr>
              <a:t>Designing the needs analysis</a:t>
            </a:r>
            <a:endParaRPr b="0" lang="en-US" sz="3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Procedures for smaller-scale</a:t>
            </a: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Initial questionnair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Follow-up individual and group interview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Meetings with student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Meetings with other teacher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Ongoing classroom observation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Test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Verdana"/>
              </a:rPr>
              <a:t>Making use of the information obtained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Making a list</a:t>
            </a: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 consists of information collected from different source and summarized in ranking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More analysis and research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Times New Roman"/>
              </a:rPr>
              <a:t>    </a:t>
            </a:r>
            <a:r>
              <a:rPr b="0" lang="zh-TW" sz="2000" spc="-1" strike="noStrike">
                <a:solidFill>
                  <a:srgbClr val="006699"/>
                </a:solidFill>
                <a:latin typeface="Times New Roman"/>
              </a:rPr>
              <a:t>‘</a:t>
            </a:r>
            <a:r>
              <a:rPr b="0" lang="en-US" sz="2000" spc="-1" strike="noStrike">
                <a:solidFill>
                  <a:srgbClr val="006699"/>
                </a:solidFill>
                <a:latin typeface="Times New Roman"/>
              </a:rPr>
              <a:t>…</a:t>
            </a:r>
            <a:r>
              <a:rPr b="0" lang="en-US" sz="2000" spc="-1" strike="noStrike">
                <a:solidFill>
                  <a:srgbClr val="006699"/>
                </a:solidFill>
                <a:latin typeface="Times New Roman"/>
              </a:rPr>
              <a:t>..The primary goal of analysis is to bring meaning to the obtained information …</a:t>
            </a:r>
            <a:r>
              <a:rPr b="0" lang="zh-TW" sz="2000" spc="-1" strike="noStrike">
                <a:solidFill>
                  <a:srgbClr val="006699"/>
                </a:solidFill>
                <a:latin typeface="Times New Roman"/>
              </a:rPr>
              <a:t>’</a:t>
            </a:r>
            <a:r>
              <a:rPr b="0" lang="en-US" sz="2000" spc="-1" strike="noStrike">
                <a:solidFill>
                  <a:srgbClr val="006699"/>
                </a:solidFill>
                <a:latin typeface="Times New Roman"/>
              </a:rPr>
              <a:t> (Stufflebeam et al. 1985)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Take different views into account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* learners</a:t>
            </a:r>
            <a:r>
              <a:rPr b="0" lang="zh-TW" sz="2400" spc="-1" strike="noStrike">
                <a:solidFill>
                  <a:srgbClr val="006699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 view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* academics</a:t>
            </a:r>
            <a:r>
              <a:rPr b="0" lang="zh-TW" sz="2400" spc="-1" strike="noStrike">
                <a:solidFill>
                  <a:srgbClr val="006699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 view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* employers</a:t>
            </a:r>
            <a:r>
              <a:rPr b="0" lang="zh-TW" sz="2400" spc="-1" strike="noStrike">
                <a:solidFill>
                  <a:srgbClr val="006699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 view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* teachers</a:t>
            </a:r>
            <a:r>
              <a:rPr b="0" lang="zh-TW" sz="2400" spc="-1" strike="noStrike">
                <a:solidFill>
                  <a:srgbClr val="006699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 view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Verdana"/>
              </a:rPr>
              <a:t>Making use of the information obtained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042560" y="2060280"/>
            <a:ext cx="7643880" cy="39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06699"/>
                </a:solidFill>
                <a:latin typeface="Times New Roman"/>
              </a:rPr>
              <a:t>The format for reporting the findings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A full written documen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A short summary documen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A meeting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A group discussion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A newsletter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3141720"/>
            <a:ext cx="8229600" cy="29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99"/>
                </a:solidFill>
                <a:latin typeface="Georgia"/>
              </a:rPr>
              <a:t>Thank you!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Verdana"/>
              </a:rPr>
              <a:t>The purpose of needs analysis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1. To find out what </a:t>
            </a: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language skills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 a learner need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2. To help determine if an </a:t>
            </a: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existing course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 adequately addresses the needs of potential student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3. To determine which students are most in need of training in </a:t>
            </a: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particular language skill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Verdana"/>
              </a:rPr>
              <a:t>The purpose of needs analysis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39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4. To identify a </a:t>
            </a: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change of direction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 that people in a reference group feel is importan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5. To identify a gap between </a:t>
            </a: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what students are able to do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what they need to be able to do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6. To collect information about a </a:t>
            </a: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particular problem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 learners are experiencin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Verdana"/>
              </a:rPr>
              <a:t>The purpose of needs analysis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6699"/>
                </a:solidFill>
                <a:latin typeface="Times New Roman"/>
              </a:rPr>
              <a:t>‘</a:t>
            </a: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Needs</a:t>
            </a:r>
            <a:r>
              <a:rPr b="0" lang="zh-TW" sz="2400" spc="-1" strike="noStrike">
                <a:solidFill>
                  <a:srgbClr val="006699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 also includes </a:t>
            </a: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students</a:t>
            </a:r>
            <a:r>
              <a:rPr b="1" lang="zh-TW" sz="2400" spc="-1" strike="noStrike">
                <a:solidFill>
                  <a:srgbClr val="006699"/>
                </a:solidFill>
                <a:latin typeface="Times New Roman"/>
              </a:rPr>
              <a:t>’</a:t>
            </a: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 right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Times New Roman"/>
              </a:rPr>
              <a:t>      </a:t>
            </a:r>
            <a:r>
              <a:rPr b="0" lang="zh-TW" sz="2000" spc="-1" strike="noStrike">
                <a:solidFill>
                  <a:srgbClr val="006699"/>
                </a:solidFill>
                <a:latin typeface="Times New Roman"/>
              </a:rPr>
              <a:t>‘</a:t>
            </a:r>
            <a:r>
              <a:rPr b="0" lang="en-US" sz="2000" spc="-1" strike="noStrike">
                <a:solidFill>
                  <a:srgbClr val="006699"/>
                </a:solidFill>
                <a:latin typeface="Times New Roman"/>
              </a:rPr>
              <a:t>It</a:t>
            </a:r>
            <a:r>
              <a:rPr b="0" lang="zh-TW" sz="2000" spc="-1" strike="noStrike">
                <a:solidFill>
                  <a:srgbClr val="006699"/>
                </a:solidFill>
                <a:latin typeface="Times New Roman"/>
              </a:rPr>
              <a:t>’</a:t>
            </a:r>
            <a:r>
              <a:rPr b="0" lang="en-US" sz="2000" spc="-1" strike="noStrike">
                <a:solidFill>
                  <a:srgbClr val="006699"/>
                </a:solidFill>
                <a:latin typeface="Times New Roman"/>
              </a:rPr>
              <a:t>s school</a:t>
            </a:r>
            <a:r>
              <a:rPr b="0" lang="zh-TW" sz="2000" spc="-1" strike="noStrike">
                <a:solidFill>
                  <a:srgbClr val="006699"/>
                </a:solidFill>
                <a:latin typeface="Times New Roman"/>
              </a:rPr>
              <a:t>’</a:t>
            </a:r>
            <a:r>
              <a:rPr b="0" lang="en-US" sz="2000" spc="-1" strike="noStrike">
                <a:solidFill>
                  <a:srgbClr val="006699"/>
                </a:solidFill>
                <a:latin typeface="Times New Roman"/>
              </a:rPr>
              <a:t>s responsibility to take into account the cultural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6699"/>
                </a:solidFill>
                <a:latin typeface="Times New Roman"/>
              </a:rPr>
              <a:t>political, and personal characteristics of students …. in order to plan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6699"/>
                </a:solidFill>
                <a:latin typeface="Times New Roman"/>
              </a:rPr>
              <a:t>activities and objectives that are realistic and purposeful.</a:t>
            </a:r>
            <a:r>
              <a:rPr b="0" lang="zh-TW" sz="2000" spc="-1" strike="noStrike">
                <a:solidFill>
                  <a:srgbClr val="006699"/>
                </a:solidFill>
                <a:latin typeface="Times New Roman"/>
              </a:rPr>
              <a:t>’</a:t>
            </a:r>
            <a:r>
              <a:rPr b="0" lang="en-US" sz="2000" spc="-1" strike="noStrike">
                <a:solidFill>
                  <a:srgbClr val="006699"/>
                </a:solidFill>
                <a:latin typeface="Times New Roman"/>
              </a:rPr>
              <a:t> (Linse, 1993)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Needs also includes </a:t>
            </a: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perceived and present needs</a:t>
            </a: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                                     </a:t>
            </a: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potential and unrecognized need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Needs analysis may take plac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1. </a:t>
            </a: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prior to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2. </a:t>
            </a: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during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3. </a:t>
            </a: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after</a:t>
            </a: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 a language program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Verdana"/>
              </a:rPr>
              <a:t>Examples of needs analyses conducted 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prior to a language program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94920" y="1988640"/>
            <a:ext cx="821844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Method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taff questionnaire: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* background information about the course the lecturer wa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describing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* overview of problems experienced by ESL student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* linguistic demands of the cours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* suggestions to which language skills should be focuses on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* modifications made in teaching or in examinations                                   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tudents questionnair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Verdana"/>
              </a:rPr>
              <a:t>The users of needs analysis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Big-scale needs analysi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curriculum officers in the ministry of education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Teacher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Learner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Writer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Testing personn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Staff of tertiary institution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Small-scale needs analysi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Teacher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Program coordinator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Verdana"/>
              </a:rPr>
              <a:t>The target population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Language learners or potential language learner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Policy maker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Ministry of education official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Teacher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Academic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Employer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Vocational training specialist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Parent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Influential individuals and pressure group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Academic specialist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Community agencie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Verdana"/>
              </a:rPr>
              <a:t>The target population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Subcategories of respondent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students currently enrolled in a foreign language cours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students previously enrolled but no longer studying a languag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students who have never studied a foreign languag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An important issue in determining the target population: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Sampling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Sampling involves asking a portion of potential population instead of the total population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0T08:28:56Z</dcterms:created>
  <dc:creator>BWIS_USER</dc:creator>
  <dc:description/>
  <dc:language>en-US</dc:language>
  <cp:lastModifiedBy>Jonathan Vela</cp:lastModifiedBy>
  <dcterms:modified xsi:type="dcterms:W3CDTF">2016-03-19T16:35:51Z</dcterms:modified>
  <cp:revision>56</cp:revision>
  <dc:subject/>
  <dc:title>Needs Analysis</dc:title>
</cp:coreProperties>
</file>